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FC66-2A37-4D5E-967C-A321FD3D235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D46C-3446-412C-9C65-4756982685E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C01-100B-4BC3-85E1-1A993613DD3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87F3-64A0-4C2D-BD6C-87A41EB3C20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0CA-5961-4BEC-B64A-96E62200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4C1-BF8E-4309-915D-FB517FA2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E9B-49C1-4387-B183-528FDEC5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E7E-5048-4085-B7E6-0512BDD0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EBC-2C16-43A2-B3F6-8F7FBBB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342-6EA5-4076-AEA2-0B1AB620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740-6378-4733-9A40-E9B1C70B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681-A42B-44EF-8196-49184914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CFF-CF49-41DD-85C0-A43BF852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906-8E84-458B-A11F-6F9AFBE8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864-64D5-421E-AB0D-9635D49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200-867C-4B16-897A-AEBF753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6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5601E9-61E1-449A-89F9-A680596F747B}" type="slidenum">
              <a:rPr b="1" lang="en-GB" sz="16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erde.esalq.usp.br/~jorge/clarice/venables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R 2.5.1 Prelimin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venience features to make life a bit easier when working with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R Sess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nput and output of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text/SAS/Excel/… files, ODBC connexions,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ethods of intera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 lin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ative R script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editor (Tinn-R, WinEdit, Emacs/ESS, …) and R working in tandem – most powerful of al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E20-D5B7-48B2-B592-6E5333D9A8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Working with the fil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t aside a special directory (Microsoft: "folder") for all the files you will need, or generate, for this cour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all this the "working directory"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using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etwd(…..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make this directory your working director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ave your image, creating an .RData file in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o start R with this as your working directory, go to that directory with the file explorer and double-click on the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ub-directories for special kinds of file (e.g. graphics) are a good idea.  Neatness coun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A8B-159F-4078-9FF1-8AFBF98D0D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Always keep an eye on the search path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ist of places from which objects are sought by the evaluator.  May include packages, attached lists or data frames, or the 'global environment'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Courier New"/>
              </a:rPr>
              <a:t>&gt; search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] ".GlobalEnv"        "package:stats"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3] "package:graphics"  "package:grDevices"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5] "package:utils"     "package:datasets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7] ".R_Data"           ".R_Utils"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9] "package:methods"   "Autoloads"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1] "package:base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C99-6B89-4875-8DF0-24EF836F75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 packages needed for the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ASOR (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ailable from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http://verde.esalq.usp.br/~jorge/clarice/venables/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gc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lattice, grid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gl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nlme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lme4,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ODBC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, foreig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rpart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tree, gbm, randomFore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hoose a .br CRAN mirror and install the ones in red.  The ones in blue should be already t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6B7-5D18-4711-A1A5-20BBBA5AD0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Demonstration 1: Installing and Using ASOR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ot strictly needed, but useful for large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llows large objects to be stored out of memory in a special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_Stor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ub-direct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Attach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make the stored files visible on the search pa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Stor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take objects out of memory and store as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Objects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list the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Remov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remove objects from the file sto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550-B6F3-4B72-B75D-BCB265A8DA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Reading in data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simplest way is probably using .csv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sets for the course will come from several plac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data sets are already available on the course web site </a:t>
            </a:r>
            <a:r>
              <a:rPr b="0" lang="en-AU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verde.esalq.usp.br/~jorge/clarice/venables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will be supplied as the course progresses, as need b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EA4-7538-4A29-83B8-0C064FE31C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2: Reading in and Sto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wnload the CSVFiles.zip and unzip into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Tinn-R and open the script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make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e how it work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execute the script.  This will generate another script calle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xecute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 inputData.R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(not as a source file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is should start (if need be) an .R_Store directory of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AB6-BCC2-4AF8-9977-3DF44C8217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Use of R for modell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 is a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languag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manipulating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objects</a:t>
            </a: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hen using S (i.e. the R program) use objects to transmit information as completely as possi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oid using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attach(data_se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detach(data_se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ake frequent use of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…),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…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…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2FE-4BD7-45B2-8C06-8743DAE3C8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3: using </a:t>
            </a:r>
            <a:r>
              <a:rPr b="1" lang="en-US" sz="3200" spc="-1" strike="noStrike">
                <a:solidFill>
                  <a:srgbClr val="990033"/>
                </a:solidFill>
                <a:latin typeface="Courier New"/>
              </a:rPr>
              <a:t>with()</a:t>
            </a: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 &amp; frien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Like making a copy of the data object visible </a:t>
            </a:r>
            <a:r>
              <a:rPr b="0" i="1" lang="en-AU" sz="2400" spc="-1" strike="noStrike">
                <a:solidFill>
                  <a:srgbClr val="ff3300"/>
                </a:solidFill>
                <a:latin typeface="Arial Unicode MS"/>
              </a:rPr>
              <a:t>ahead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of the search path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nsures that variables come from the right pl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value &lt;- with(data, expression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data, do_someth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data frames to be exten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selection of rows or columns of data frames in a graceful wa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141-CFA5-4DAC-81C1-ED174C54A1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Quick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 Unicode MS"/>
              </a:rPr>
              <a:t>The janka data – a leading example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with(janka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plot(Density, Hardness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14D-EA74-4966-897E-A05D453CFB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wo important environment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R_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R_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"C:\\PROGRA~1\\R\\R-25~1.0</a:t>
            </a:r>
            <a:r>
              <a:rPr b="1" lang="pt-BR" sz="1800" spc="-1" strike="noStrike">
                <a:solidFill>
                  <a:srgbClr val="000099"/>
                </a:solidFill>
                <a:latin typeface="Courier New"/>
              </a:rPr>
              <a:t>"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:\\Documents and Settings\\Bill Venables\\My Documents"</a:t>
            </a: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getwd(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"C:/Documents and Settings/Bill Venables/My Documents/R Modelling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79E-B4C1-46A1-985F-C577531546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_HOM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Usually located 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C:/Program Files/R/R-2.x.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Main subdirector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bin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executabl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include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rary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standard librari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do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document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et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initialisation, &amp;c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3D3-DE60-4BA8-BE72-EF12115B26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Initialis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System wide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     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etc/Rprofile.si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Global to a particular us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Particular to a chapt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&lt;wd&gt;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unction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Fir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BB2-F610-4835-BA68-FBCADF856B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Simple structure of the </a:t>
            </a:r>
            <a:r>
              <a:rPr b="0" lang="en-US" sz="3200" spc="-1" strike="noStrike">
                <a:solidFill>
                  <a:srgbClr val="006600"/>
                </a:solidFill>
                <a:latin typeface="Courier New"/>
              </a:rPr>
              <a:t>working directo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arent directory (folder) containing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imag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reated and maintained by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f required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utomatically executed when S-PLUS star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6600"/>
                </a:solidFill>
                <a:latin typeface="Courier New"/>
              </a:rPr>
              <a:t>File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objects for load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files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xls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csv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tx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…)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cripts,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R, *.q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utput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118-1EB9-4D5C-8C6F-1C7FBD3E58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Editing the GUI Preferences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336000" cy="547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9B1-E94E-40CE-A9E0-89DAA2EECB1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possibilities for </a:t>
            </a:r>
            <a:r>
              <a:rPr b="1" lang="en-AU" sz="32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 fi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extracts from my user 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options(show.signif.stars = FALS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length = 999999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for this course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MASS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nnet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465-F6DD-4CE3-951A-9214C633DC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ASOR pac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llows data sets to be stored out of memor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Objects remain visible – 'promises' are set to load the data on dema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ill somewhat experimental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xerc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working directory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stall the ASOR package into your machin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Load all the data sets provided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ore them in an ASOR libr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.First function to Attach() the library on commencement of the R s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ABD-F033-4F22-9199-7A857F0791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, An Introduction to th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R is a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ng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n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interactive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object-oriented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function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 langu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Data sets, vectors, matrices, arrays, lists, function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on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put and outpu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struction, computation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Graphical displa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ssignment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DFD-BC78-434B-B184-AE5B4C4AB2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4:08:04Z</dcterms:created>
  <dc:creator>Venables</dc:creator>
  <dc:description/>
  <dc:language>en-US</dc:language>
  <cp:lastModifiedBy>Venables, Bill (CMIS, Cleveland)</cp:lastModifiedBy>
  <dcterms:modified xsi:type="dcterms:W3CDTF">2007-08-07T11:43:38Z</dcterms:modified>
  <cp:revision>10</cp:revision>
  <dc:subject/>
  <dc:title>Some S-PLUS 8.0.1 Preliminaries</dc:title>
</cp:coreProperties>
</file>